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B13-3480-45D2-8101-F150B167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12A-C15C-43F1-8741-1A97ECA1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312-950B-493C-B018-D12D856F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B89-9F33-485C-9400-8AB36CF1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6CB-EBDB-4CDD-99B6-60EFC292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3D1-36B1-4667-A6D7-4E1A7A7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3E1-45A2-4E06-8D10-341E3D7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FE4-4D99-49DF-A42A-ADCDFE25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CE9-5382-4610-A82E-CA17DD8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FA4-A565-48FC-BC06-2DE861A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F15-7EAA-4841-BE34-2384AF4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23B-5E9F-4F44-A0D5-7555244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01F-704C-42F6-831F-3E89D350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ootlight MT Light"/>
              </a:rPr>
              <a:t>Washington Naval Conference of 1921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by Ashley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2361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* The first disarmament conference in history, WNC was a military conference arranged by the US President Warren G. Har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* Washington D.C. Nov. 12, 1921~ Feb. 6,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* attended by Belgium, China, Japan, France, Great Britain, Netherlands, Portugal, a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* Intended to limit arms race in East Asia and establish peace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ootlight MT Light"/>
              </a:rPr>
              <a:t>O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 Four Power 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ine Power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ive-Power Naval Limitation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Six Power 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Other minor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ootlight MT Light"/>
              </a:rPr>
              <a:t>Major fail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Absence of enforcement measures in agreement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Consequences were not determined. Hence, Japan withdrew from the Five Power Treaty and strengthened its navy power. This demolished the intention of the conference - to restore peace in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greements were not comprehensible in that they did not encompass all categories of a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ll agreements practically lacked action and enforc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ootlight MT Light"/>
              </a:rPr>
              <a:t>Major failures, cont’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Failed to anticipate futur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ations developed new battleships that did not fall into the restricted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ircraft technology was further enhanced as a replacement for battle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ootlight MT Light"/>
              </a:rPr>
              <a:t>Flaws within the trea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our Power Treaty lacked regulatory measures; it only made nations consult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Open Door Policy abused: Nine Power Treaty reaffirmed independence of China via the Open Door Policy but it only provided foreign nations to exploit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26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ootlight MT Light"/>
              </a:rPr>
              <a:t>Spirit &amp; l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Spir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- To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reduce the tension of arms rac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mong maj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- to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restore peace in East Asia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nd bring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worl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- to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establish peace treatie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ccord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Le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unbinding agreement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 that imposed weak reinfor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deactivated battleship produc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 but initiated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  <a:ea typeface="华文黑体"/>
              </a:rPr>
              <a:t>aircraft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- caused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unstable world peac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via shift in dominant naval power from US to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1:43Z</dcterms:created>
  <dc:creator>ashley choi</dc:creator>
  <dc:description/>
  <dc:language>en-US</dc:language>
  <cp:lastModifiedBy>ashley choi</cp:lastModifiedBy>
  <dcterms:modified xsi:type="dcterms:W3CDTF">2008-10-19T17:24:44Z</dcterms:modified>
  <cp:revision>4</cp:revision>
  <dc:subject/>
  <dc:title>Washington Naval Conference of 1921 by Ashley Choi</dc:title>
</cp:coreProperties>
</file>